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9FD-B8B7-452B-985A-6716F71A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FF78-449F-4F6A-BC86-BFEA1AEC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11AE-716A-417D-8D40-F467AE34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081-5E14-44BA-9645-9FE5F304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C6B-3E5B-4AE7-ABE2-BD45D8C3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478-1217-438F-A354-4E855412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2950-28F5-4B06-88CD-0267FD70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71BA-DA29-44C1-9C84-CB73982D0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A55-3986-40C1-A028-81ECB9F2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820-A4A7-4681-B2E2-9C7A1559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C0D-5F91-40DF-A287-43280336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E290-A735-4542-972E-D1B5E003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61A-1CF7-46DE-A7AE-7E14B4ED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27EB-9D94-4E80-B791-FCB81FC6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8FEB-3A0B-4D52-A15E-4F557594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46C7-F985-4B74-9CB6-23AAC919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273E-E476-4BB4-908A-012646022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853-935B-4273-B6D7-38629D7E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81D-8192-455B-B2CA-E850E6A3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F49-2350-463F-B2B9-0ACE9837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2EC-6DFE-4B29-807D-7D314381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124-96CE-43FF-B785-2AF3A579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F8B9-9083-4F17-8ADC-50D03829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E70D-BA0B-4DC1-8DD9-E9AB5CB2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5F5-7769-4B7E-B17C-27C30808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543-7CD7-4F14-BA34-297FC93D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506-0A63-4FE1-ACB0-CABD1832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E81-6B97-4750-B0E4-E4BD19CE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004-F0BC-4ED7-B5D2-C9F79D91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2F0-B7A6-4791-9E45-B39ECFAB1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FE9-0057-4278-A246-B74EAB0B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558-C315-41DD-863F-FD6793E1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383-A025-47D8-850B-84C101F1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F99-9DCF-43BD-A19F-DE552A70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9316-5E62-4D29-A840-BE56E56D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D7A5-0A99-4B4C-A62B-4A6A66DE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47D-4520-4EF6-92BF-86D61B7B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D49-14DF-41D6-B28A-FA9A3426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8725-D778-478A-BF48-6856C573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702D-9DEE-4997-96E1-F1A5C360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A6B-2D82-4884-8BF9-E47A1E1A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AFBD-690C-4136-AC57-FB729824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A65-CD43-4592-90F8-D73C7623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211-11F6-441E-AE01-CAD39A20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17C8-0553-4BF5-9319-13E0F4D0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732E-B3DC-4977-AD97-7D7BB6BF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1F0-A57E-4BB4-BF02-02B64331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353-88C3-4F63-946D-1C6B5219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FEAD-50D6-4023-BD5D-C6C9F007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A34-9AE9-4376-9091-9B3B6990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BAD2-2FAA-4154-B725-0244FE64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3471-FBDA-46FC-A026-AA383DD4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B2B-8BF3-424A-BEDA-D9C83CFA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BC3D-8300-49AF-84B2-DAFD463D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A30-7D09-4EE0-B568-CE2EC539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A60-280B-4211-AE14-F9B201706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921-B875-42B8-920F-3559D981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A31-26E0-4F7E-8649-DBB67CC8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E26F-BCF6-4517-8FDC-43A11353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E88-15EF-41CA-9664-F3C3C9CD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F25-7D1A-4AA2-B41B-75803AE6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D7C-DAB9-483B-8D77-C079F551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F70-A3B5-4DDB-9B63-9D61D0B5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EF04-32F3-4441-A429-0E4442AF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DAE-7255-4E37-AD08-7C0E8785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91F-8C9B-41F3-9E4B-FB3DBF67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7123-3908-4FD0-9A49-9283742E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235-6D2B-40E1-A7B3-09A183D5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3E69-AF9C-415B-BE2B-B23C10A1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314-BCEE-4FA0-BD36-7C5AF97F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0346-4531-4C61-994B-6A6FDB8B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2F0-4DD8-4FA9-A419-E2D6E2AC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8E9-D257-4190-91B7-0CC8D7EF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1EE5-8C09-4698-B0E1-1A230B13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652-17E9-4B8B-95E7-4F9E0479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6FAF-C018-4CCC-9E24-AE0F0981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AD8-367D-4FEF-95E7-5E435DD8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7A7-BC29-435F-ACA4-45ED586D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801-19C6-4E94-B423-E843DEBB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5B5-1400-4BD0-BFEB-385ED3C1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8ACB-3417-494D-9A90-AAAE2E2A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387-F985-4AA2-90D8-06939D64A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015-9851-47BE-BCCC-750F6DC3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02D-C05A-4C10-8B86-52992656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F9C-5DC2-4D3E-B735-67E654C9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1973-E5DD-47C9-9102-7B2814FB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9BF-E92D-4847-814A-902F4930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34AF-E037-41BF-8BC3-65AAFDF3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0671-A636-43F7-9871-3627CADB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706-F6AC-466E-9846-0BF881DE5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A572-F19B-45A6-AE84-5C0EB50E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249-81DB-47B6-AC97-C14F2D9E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858-DE90-464C-82E3-6E953746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CFA-78B6-449B-B0A8-342C2EBA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F99-16FE-4CD2-B474-19E4DC48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AC02-4B44-4ACB-93C4-254AB468A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394-933C-4735-A931-C7B8291C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512-2759-4B8C-81B4-E092705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2A0-AC85-46E0-AB35-4C23D301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78B-AC66-4203-AD39-BCA8A6E5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E5A-3528-4FBC-A085-EDCF8D4A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1EC-64FA-4FEF-90FA-9F5AB40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CE6-63EA-440F-BEE4-C6FDC9D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6C5-C487-4F4F-8F6A-570C039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DC0-7FC4-48EB-B3A9-B37AF67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EB0-5D6E-4170-BCFB-4ADE950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C81-1ED2-4DB2-8E5F-A861ADC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A86-090B-4DBE-87F0-ED678C1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834-2C73-4819-85DB-7FCE715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DCC-5288-4DA3-BAA7-F2DFC6A7E9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F09B1D-12E7-409A-92E5-8072063869EC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9:35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F47-329C-4753-8FC7-6F628F66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B09-B577-4B0C-BB20-D672B699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Spring Semest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93E-42CC-477C-8848-17EEF723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3: Acids and b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If 2.0 moles of methane react with excess oxygen, how many moles of water will be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 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ns:  4.0 m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182-800F-4E65-B26E-A4E47AEEE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to write your version on your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ring paper and penc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alcul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James Brown- Get up Off of That Thing.mp3" descr=""/>
          <p:cNvPicPr/>
          <p:nvPr/>
        </p:nvPicPr>
        <p:blipFill>
          <a:blip r:embed="rId1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50934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69E-AB7C-4FEF-BE37-7ECFAAD6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4: Electrochem and nuclear c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337-3B19-4369-B420-773CA6CE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(Unit 15): Organic and biochemis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FB12-1F93-4A23-BA81-28BD5AB50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570-D787-4870-9903-6133AF0E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properties of gase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difference between a real gas and an idea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8599-B52A-458A-8F29-00E05559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K.M.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haviors of gases can be determined by using gas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2D3-E0EF-4F4B-B414-ED26B6BD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: Gas La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yle’s (P,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rles’  (V,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ay-Lussac’s (P, 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mbined (P,V, 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vogadro’s (V, 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457-AC67-4191-B00F-ECCBC854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deal: PV=n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alton’s: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+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aham’s Law of Ef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207-2099-48B8-A55F-65D7FC74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 STP, one mole of gas = 22.4 liters.  The T is 273 K and P is 101.3 kP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D24-9186-44F0-B8F1-D252438F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as Collection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to calculate percent erro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act. – theo)/theo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3D2-B17E-4B86-BACA-424FC5A9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90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 sheet (penc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~2 hou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DE0-5C5A-489A-8CC4-BE401324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C7B9-AF6D-4D7E-B554-80CB9241E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ey terms to know: critical pt., normal f.p., normal b.p., triple pt., critical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48D9-E326-44D0-9B29-2DE46893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terms: liquid, solid, gas, vaporization, boiling, freezing, deposition, melting, condensation, sublimation &amp; eva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E5C-7A45-4745-B22C-521115A1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termolcular forces: (strong to wea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 (HNOF)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dipole-dipole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London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ED9-01D0-47BD-B640-0840DFDA8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ixtures: homogeneous includes 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 includes suspensions and coll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1B79-B894-4D68-8340-7088CF5E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ncrease the rate of dissolv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A7D-580E-442A-A17D-1526DC90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s of solids: metallic, ionic, covalent network and molec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458-D540-479A-9D7C-BA076F53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apor pressure:  It’s higher if the boiling point is l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epends on temperature and intermolecular for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62D6-6726-4D0C-8B37-9AFA4B31A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vaporation takes place when there’s enough kinetic energy for molecules to overcome their intermolecular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2C9-DD5D-46CF-8A0E-863A5E18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5237-8614-4261-9018-C31A53689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Sched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1: Per. 1 and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2: Per. 3 and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3: Per. 2 and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AF8-CCD0-476F-A535-169801F4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tions are made of a solute (minor) and a solvent (maj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aturated, unsaturated and super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0FE0-CE1A-4017-B35F-DBE9DADA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ke dissolves lik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ar substance will dissolve other polar substances (water will dissolve salt, but not o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4C4-FCC0-4843-B17D-7AB0FEE5B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centration measure how much solute is in a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rity: moles/Li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lity: moles/k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F41-1521-48A6-8A6B-5E11F323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% Conc: mass solute/mass of solution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B008-80AB-420C-A6E9-B5527462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inding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.P. depression, B.P. elevation, osmotic pressure and V.P. lowe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930-0DE7-4495-B535-5BBCC68A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∆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</a:t>
            </a:r>
            <a:r>
              <a:rPr b="1" i="1" lang="en-US" sz="6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1" i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 K</a:t>
            </a:r>
            <a:r>
              <a:rPr b="1" i="1" lang="en-US" sz="6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x </a:t>
            </a:r>
            <a:r>
              <a:rPr b="1" i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bility r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lution: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lytes: ions in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44C-ABD9-4031-84CB-B3FF2EBC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A03-C8DA-4DA1-AF09-14063795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at vs. 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at (Joules / c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emp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/ 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28DC-D06F-42CA-BD21-900BA60E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enthalpy, entropy and free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thalpy describes the amount of heat absorbed (+∆H) or released (+∆H) in a rea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BF6-A2AD-4473-AA8A-40BAE4EE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thalpy cannot be directly measured.  So we measure the change in enthal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72D-9387-4B14-A82A-DDE9F196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old review she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specially mult.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your ochem/bioc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me your stoich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0806-17C0-4D64-AFBB-2F0FB2A0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ergy profile grap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tivated complex, change in enthalpy, presence of a catalyst, activation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C014-C1A3-4FC3-8412-A3640AAF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H = endother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 ∆H = exother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S =  diso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∆S =  o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G =  nonsponta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∆G =  sponta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77B-C741-4BAF-8F6D-EAE61BA3F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pecific heat: the amount of heat needed to raise one gram of a substance one degree Celsius (or one Kelvin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27B-2FB5-48D4-A757-A2EA478C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ate laws are determined by using the concentrations of reactants that influence the reaction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low step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90C-14F8-4461-99D3-E62A31F4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AD1-5D59-4399-9ADE-7CF9072A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: opposing chemical and physical changes occurs at equal 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842C-1644-4239-8AF6-749D95FA2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can be shifted by changing the pressure, temperature or concentration of the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 Ch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âtelier’s Princi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8F6-253E-43DE-9A9C-4DB21698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 baseline="-50000">
                <a:solidFill>
                  <a:srgbClr val="eaeaea"/>
                </a:solidFill>
                <a:latin typeface="Arial"/>
              </a:rPr>
              <a:t>[products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i="1" lang="en-US" sz="5400" spc="-1" strike="noStrike" baseline="-25000">
                <a:solidFill>
                  <a:srgbClr val="eaeaea"/>
                </a:solidFill>
                <a:latin typeface="Arial"/>
              </a:rPr>
              <a:t>eq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-----------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en-US" sz="5400" spc="-1" strike="noStrike" baseline="50000">
                <a:solidFill>
                  <a:srgbClr val="eaeaea"/>
                </a:solidFill>
                <a:latin typeface="Arial"/>
              </a:rPr>
              <a:t>[reactants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4FD-F9B9-46DA-86E2-50F7A6C7F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pressions only include concentrations in the gas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rge K = favors 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42D-61EE-4A1D-A258-E8AF3B12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D87E-50B6-451F-A9B8-3F6C2711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8: Gas La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F205-90B9-4CAD-B122-6346BA2C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ids are proton donors (Br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ønsted-Low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Acids taste sour, corrode metal, turn litmus paper pink and have a pH &lt; 7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5271-0076-4A93-B78D-07A6F3DD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ses are proton acceptors (Br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ønsted-Low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Bases taste bitter, feel slippery, turn litmus paper blue and have a pH &gt;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FBEA-53DA-4F5B-8659-5382B4EF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 +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+ 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f HA is a strong acid, then 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is a weak conjugate b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4F16-B699-4652-AE12-E04362281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 = - log [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[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] = 2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log –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 + pOH = 14.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1.0 x 10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1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M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46B-F27B-4ECD-AB4F-7B469453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lue to red = ac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enolphthale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romothymol 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3B6C-C773-4148-B191-3523004A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t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b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HCl and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are strong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etic acid is we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AF0-1E9D-4BB0-AE4A-6AEB873F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E07-4F8C-472E-815D-BC5A9A6F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dox involves the transfer of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tals typically tend to lose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metals lose electrons easier than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DDF-E80F-4E89-93A8-2F7BF64F6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O says 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ized – reducing ag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duced – oxidizing ag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28A-1ED7-4804-A6A4-72C0B44B8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ation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oxidation number of S in MgS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electronegative element receives the negative charge (F, O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4557-8B50-4241-97F8-B88198D6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9:  Condensed states of ma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287-C8DC-4B05-AB0A-0CD47D09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 galvanic cells, oxidation takes place at the anode.  Reduction takes place at the cathod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539-F518-470E-A79D-45A58173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ic current flows from the anode to the catho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tals are the best conductors of electric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A8B-BA4A-4A29-9DC1-45A832B2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calculate the potential of a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g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+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Ag   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= +0.80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F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+3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+ 3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Fe 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= +0.77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metal is the cathod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ED4-D235-4590-A5A2-3A2129F1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corro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to preven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metals are used in cathodic protec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DC2-E7A7-4E4C-9C00-7EF808FA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clear chemistry is the study of the nucle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clide undergo decay to become more s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:P ratio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1:1 – 1.5: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BFF4-12C5-438E-825C-48038AF0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st common form of decay: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α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decay (helium) and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decay (electro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Nuclear reactors function on the principle of fiss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10B-EB95-4FCE-83EA-69084924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actors that generate additional fissionable fuel are known as breeder re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D90-0644-4BF0-AF42-47CB4908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viet-style reactors are known as RBMK re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trol rods absorb neutrons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Chernobyl’s meltdown was caused by human e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0723-9C19-4C18-BDD6-C08F6013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lf-life: the amount of time needed for half of the original sample to rem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uch will remain after 2 half-liv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6E0-B923-4B7C-9348-55E0F5B3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 bombs are fusion bo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 man” and “Little boy” were fission bo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7B3-DA93-416A-B12C-B29CA18D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0:  Sol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AEA-CF07-4A14-98FB-6FA9881A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5A8-3A61-4B58-B0CC-4114552A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ganic chemistry is the chemistry of carb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rea was the first synthesized organic comp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DAB-CEAA-436E-9E38-EA32EEFE2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menclature: alkanes, alkenes, alky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ation reactions: adding hydrogen to alkenes/alkynes breaks b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39C-8085-4FA0-89EB-481409B9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t all hydrocarbons are 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4C1-E231-40DD-B779-1AFFA0E8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menclature: benzenes (aromatics), alcohols, aldehydes, ketones, carboxylic acids, ethers and es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A223-0E2E-46D5-9D22-4FC6A618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properties and 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dehydes are used to preserve classroom specim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BB0-2F90-4587-BED5-22B3ACCA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romatics have a smell (benzen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6E0-0240-433D-A35D-D1545852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iochemistry: chemistry of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our main biomolecules:  proteins (glue lab), carbohydrates, lipids (fats) and nucleic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5BE-81D1-48E7-AB63-87AB6577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teins are made of amino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amino acids have an amino group, carboxylic acid, R group and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88E-44EA-48F3-ADEF-3365A3ED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amino acid R groups are hydrophilic (water-loving), and hydrophobic (water-fearin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887-EA96-44AE-B589-97FC61B2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1: Thermodynam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217F-D666-4FEA-9055-7D1BCFB9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order of the amino acids is known as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prim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5F3A-76DB-43E8-896D-8C9BAA97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“space” of the peptide chain is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second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pha helix (collagen) vs.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leated sheet (sil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6F17-6C6D-4062-BDD6-211ACB44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Terti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 is the “shape” of the protein—this is determined by the hydrophilic and hydrophobic R groups found on the amino aci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EBEB-95CB-4040-942D-474B180F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mino acids are bonded by “peptide linkages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—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ater is produced when peptide linkages are form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B67-1D1D-4DC0-9E2F-FBE68817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ypeptides are polymers (many monomers make polymers).  “Poly” means man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63A4-DD08-4916-AEF2-5608B339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zymes are biological cataly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ock and Key”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48FB-5396-4A9C-BF09-C2B42876B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arbohydrates are sugars (saccharid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nosaccharide = one sugar; disaccharides = two sugars; polysaccharides = many sug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8F59-109B-4F08-ACE5-3F0F2872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 bond is made when  disaccharides are formed (C—O—C)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e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crose is a disaccharide made of glucose and fruct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A52-1170-43F7-BBEC-FA9E06F1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arch is an example of a polysaccharide (many units of glucos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912-078E-4E88-8675-FAB3AEFBF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nds between monosaccharides are known as “glycoside linkage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030-17D2-4944-AFAA-E88D46AC3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2: Equilibr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A391-F48F-4509-8879-B48A1512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sugars cannot be digested by humans like cellulose (found in paper and wood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F154-BC9D-4383-9A60-89C70075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pids are also known as f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s make food taste 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s are dissolved by so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098F-1617-4669-8764-4777041E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ap – mic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ty acids that are esters of glycerol are called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triglycer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ospholipid bilay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DDB1-06C8-4B8A-9C30-468075B3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NA—deoxyribonucleic ac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NA—ribonucleic acid (used in transcription/protein synthesi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707-7A90-4CAB-88FF-44789C17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F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448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F95-F3A2-4A61-A13F-F4CD996F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mpirical formula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%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g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E.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ecular form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ar mass / emp. mass = ratio (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FF70-8CD9-4654-96C5-3FD1177F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miting reactant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ve vs. 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6594-A409-4139-B270-021FA830F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absolute zer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631-7AE8-4341-9EA2-ED1BB407A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solvent in hydrochloric acid? (Ans.: wat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rger part of the mix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4C14-07B4-4DAA-BA39-1B80FF33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kenes contain at least  one _______ bo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kynes contain at least one _______ bo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5-30T15:46:05Z</dcterms:modified>
  <cp:revision>154</cp:revision>
  <dc:subject/>
  <dc:title>Slide 1</dc:title>
</cp:coreProperties>
</file>